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C0B-F221-4F07-80B0-3BD1806A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FD4-8DCE-4B29-A850-02A8933B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C4C-5FEA-42F8-A263-2DF533B3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AE1-E1FD-4058-84C0-DE4CD29F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990-317F-4844-B354-CCA6F4AD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B58-1E4D-4B50-B4EA-A511255A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FF1-2143-4DF9-AE41-A9E6E01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D803-00B2-47B6-B10F-2AA2BFB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7129-89A4-4B96-B11A-A54C5BF8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60E-D337-470C-A345-3291281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FA29-0FBA-4FF4-96DF-F6928FD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6C4-88DA-4B26-B520-CEDEB096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502-B8CE-4071-BDDC-EF25789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A4DD-3BF3-472A-AD62-B312DEA6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5C65-7CE4-4BD4-9E33-E558C9F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AEA2-3035-48CD-A469-95AA09F8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BE35-6C81-494C-A312-E40611EB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6709-1DD6-4BED-86B8-BD98054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AD4A-D3B3-41EC-80F4-D1AB9D7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E5FA-27B0-48FF-BA8D-5F4506E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0DE0-40E2-49F0-84A2-0D2BDF55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AACA-B2DE-498A-BFC8-BBBE0B1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1A3-D85A-43D3-AC99-5B02B9C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BA33-A1F6-4D96-8EF1-60D2F44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DEF2-972E-4492-A9F3-0D10CB1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F398-46E0-49D6-9FAB-FE04B1F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4879-84CA-4CA6-80CB-51A2426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9BEE-EA95-409A-9208-B3CAE425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2776-90A5-491B-8A63-F7D5D88D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8D18-B1EA-4ECB-8729-52130CD7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978B-9CA2-4373-8496-62CCAE8B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10FD-8917-476A-B840-DD3D193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51CA-AC4A-4179-96B6-838BE144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4F8-75EB-4A00-B42E-2F8B26E9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020B-3ECA-42B8-BF08-011B1FB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F9FA-FA53-4879-ACD2-7F88FA6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AA38-7792-405A-903D-CF115782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EC5B-AC1F-4210-B7CD-2FDD0A1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F3DD-2BC8-4BBE-AFF9-EF5E59E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DA6F-789C-47F6-80B3-DBDA335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35C40-BB9C-4F25-87B6-C8271E2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53D4-7BF6-41DF-B95B-BEAD3FE5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7001-8150-4106-8F51-672CCF90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9DB5-C033-4E88-8669-1F1224E3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ED4-3F91-46D2-AAD9-8DFC596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D640-ABC6-4674-A982-EB6EC92E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2565-65BA-48AB-B530-C22BA39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CD0C-E7F8-4AAF-B6B5-D838739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5FC5-5F82-4D44-A10B-EF052A7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A53D-5C16-44E8-A4AC-5C56E83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E329-93F3-4B02-8B04-E7712E5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D6A3-15B5-431D-A816-A9E7C4B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55B9-53BD-4AA4-B64F-CA2F591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B3685-FCBA-4679-B6FC-B120C597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9E38-A753-4D1E-ABFF-A62468D1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104-F4F6-4A6E-84DB-71DA24C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4C83-0A95-49B3-867E-9EF38A56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9BD-6E34-4274-BED1-F96BB946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F0E-960D-4628-91E7-51D9E67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B07-4B33-4733-9D78-2F0ED56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D9F-077F-4C4B-B356-45A0095515DE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A7E8-844D-4D1C-85A2-3CA7D2265807}" type="slidenum">
              <a:rPr b="0" lang="es-PE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8CE-8AFE-4395-8182-A4861AE32727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9D2-FFF0-43A2-B8B8-593082440014}" type="slidenum">
              <a:rPr b="0" lang="es-PE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8A5-B97A-480F-BA61-C8925A56E926}" type="slidenum">
              <a:rPr b="0" lang="es-PE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162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www.porque.es/imagenes/inteligencia.jpg"/>
          <p:cNvPicPr/>
          <p:nvPr/>
        </p:nvPicPr>
        <p:blipFill>
          <a:blip r:embed="rId2"/>
          <a:stretch/>
        </p:blipFill>
        <p:spPr>
          <a:xfrm>
            <a:off x="4286160" y="2571840"/>
            <a:ext cx="3333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Es una herramienta de aprendizaje que permite representar y organizar la información de manera que pueda ser asimilada y recordada fácilment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b050"/>
                </a:solidFill>
                <a:latin typeface="Trebuchet MS"/>
              </a:rPr>
              <a:t>Procedimiento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Lee el texto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Reconoce el tema central y coloca una imagen que lo represente en el mapa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Trebuchet MS"/>
              </a:rPr>
              <a:t>Los principales subtemas irradiarán de la imagen central de forma ramificada y con una palabra clav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Las ideas de menor importancia también serán representadas como ramas adhesivas a las del nivel superio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ff0000"/>
                </a:solidFill>
                <a:latin typeface="Trebuchet MS"/>
              </a:rPr>
              <a:t>VENTAJAS</a:t>
            </a: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SENCILLO DE ELABORA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SE PUEDE ENRIQUECER CON IMÁGEN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FACILITA EL ESTUDIO DE TEM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rebuchet MS"/>
              </a:rPr>
              <a:t>AYUDA A RECORDAR LA INFORMACIÓN CON FACI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ww.mapamental.com.ar/img/T%C3%A9cnicas%20de%20Mapas%20Mentales-imagemap.gif"/>
          <p:cNvPicPr/>
          <p:nvPr/>
        </p:nvPicPr>
        <p:blipFill>
          <a:blip r:embed="rId1"/>
          <a:stretch/>
        </p:blipFill>
        <p:spPr>
          <a:xfrm>
            <a:off x="0" y="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corporaciongiq.edu.co/GIQ/img/mapa%20mental3.GIF"/>
          <p:cNvPicPr/>
          <p:nvPr/>
        </p:nvPicPr>
        <p:blipFill>
          <a:blip r:embed="rId1"/>
          <a:stretch/>
        </p:blipFill>
        <p:spPr>
          <a:xfrm>
            <a:off x="138240" y="0"/>
            <a:ext cx="85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cibercim.com/contenido%201%20cmim/MAPAS-MENTALES%5B1%5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proyectoespiga.com/images/letras/mapa_mental55.jpg"/>
          <p:cNvPicPr/>
          <p:nvPr/>
        </p:nvPicPr>
        <p:blipFill>
          <a:blip r:embed="rId1"/>
          <a:stretch/>
        </p:blipFill>
        <p:spPr>
          <a:xfrm>
            <a:off x="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www.icesi.edu.co/blogs_estudiantes/juanmora/files/2008/10/ment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3:13:51Z</dcterms:created>
  <dc:creator>Computo</dc:creator>
  <dc:description/>
  <dc:language>en-US</dc:language>
  <cp:lastModifiedBy>Computo</cp:lastModifiedBy>
  <dcterms:modified xsi:type="dcterms:W3CDTF">2009-11-03T23:35:44Z</dcterms:modified>
  <cp:revision>3</cp:revision>
  <dc:subject/>
  <dc:title>EL MAPA MENTAL</dc:title>
</cp:coreProperties>
</file>